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527-551D-4E0C-85E4-B6B8A5CB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F49-03A4-4519-BCDD-DCBDBBD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E87-49E2-4591-AA68-AE1A8A6E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451-AF6B-4774-812E-DAB0735F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B29-DEDA-49C0-8914-3D8DF0F9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459-53DC-45DC-A5FD-23ED78F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2AC-2BCC-4991-B63F-41BF355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84D-975C-4E7E-949C-87BC382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800-3800-461F-86B1-E5E7ACF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D17-BED2-45D6-BD26-3B57B4F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A05-1AC9-4494-9C7D-880783F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C16-C34B-4DE3-96D7-38B3A81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5D7-F67F-4285-AC89-3E27F7F80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Users\dwilliams2\AppData\Local\Microsoft\Windows\Temporary Internet Files\Content.IE5\TXQRI1TX\stars[1].jpg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6:36:24Z</dcterms:created>
  <dc:creator>dell</dc:creator>
  <dc:description/>
  <dc:language>en-US</dc:language>
  <cp:lastModifiedBy>dell</cp:lastModifiedBy>
  <cp:lastPrinted>2015-01-05T16:52:47Z</cp:lastPrinted>
  <dcterms:modified xsi:type="dcterms:W3CDTF">2015-01-05T17:59:09Z</dcterms:modified>
  <cp:revision>3</cp:revision>
  <dc:subject/>
  <dc:title>PowerPoint Presentation</dc:title>
</cp:coreProperties>
</file>